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BC9-F5D2-4CD7-B2C9-A6338FE0A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F24-500A-4DFA-B607-A4043A425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D097-CEAC-42D2-B95F-0CEB42737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4BB-FC0D-49D7-B1A2-41BA2EF2E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3D6-4FD1-443E-B719-D0022D794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EA7-1642-4939-A401-5B361B95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BA4-A336-44BB-ABAD-9E32F15E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F25-4DA2-4331-8A2F-2F38A6A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E1C-11B8-4232-84F5-EF14B99B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F430-527F-4C7C-AC16-FA9ABFE3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94EF-54D3-443D-88D0-CFBE8075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6DD9-F8CB-4098-957E-70E7581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BEC-9FE8-4186-A358-33C0A0B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D23E-240E-49B1-AE6A-7423987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C943-DF36-4502-84B2-DAEF821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CB31-8246-4568-A1D0-7F90EBB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009-6483-4220-8F7A-99D4FC5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7E2C-0AC5-4E2F-8CAA-A5622A0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293A-6020-4799-8F7B-16A2F83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296-87D9-42E9-BA3C-BBAB9B85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B1EF-67ED-4E9E-80F5-359DE5A0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2DAB-42C1-4983-98DA-2703C1CE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A336-80B8-4A9C-8277-BE46506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4373E-F6D5-4CCE-8357-0DACCAF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AE53F-E8C1-4D4C-A948-3329FC1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92B87-8420-4BAF-A27E-BBACB1C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BC981-2391-4981-BCED-80C8435D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18B-85EF-4CAF-A94E-F55CD70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78FA7-A359-485E-B5DC-598880A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F2365-51D6-44C6-ADBB-D7A0921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D8406-3DA1-4518-9F7C-8CB8E65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E11F4-C5D6-41DF-89AE-93FDAA3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71735-6CD6-4456-B850-0D0E0EDC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A386B-7AF9-4A5E-9413-892636D1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4C103-8A51-4E79-9F74-4394DB22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04AE-DB72-4A30-816A-686B3371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6FBD-3C98-4516-9F31-690F5D8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E895-964E-49CB-B40A-4DBD6333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C94-6F78-4D1F-99D9-FAF18EB9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934E-05CE-41CB-AC7C-8DB243ED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0F71-12BD-4F42-B27B-EE974CDE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39DA-BF32-4B6E-82EA-DF5ED445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D464-A4C5-46D5-85B7-08615E5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7170-FA4F-4ED9-902E-D455557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4AB6-C5CD-4542-ADF6-0BFC21D5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FA15-C856-42FA-90E0-77DCB4DF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A981-89AB-439F-A611-0E11E3D1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1271-665D-4E61-8FAC-F6DE6098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ABCD2-CCD7-4CC4-97D0-53F49D4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23E-337B-47B5-B2E0-1A51E49E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67BD3-60BC-4265-AE4A-B152612A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56947-ADC9-480D-864A-B4C60A8D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0A32F-7BC3-4AB4-9670-B531689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E0E33-0033-4B87-879E-1B3200B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20F35-51A0-4982-8D6C-54BE7E0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2F759-5CFE-4B43-BF69-0AED9D7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D0BD4-B486-40C9-882F-CFDFA591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D36BC-0425-4911-A383-739A38D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0CD5A-6B97-4C79-9C2C-0B9A46D4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A5122-FD6D-40AF-BB43-6654BFB3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798-38F6-4D06-B25D-6D4685E6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E764D-A3EB-49FA-8EC4-D0067E19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924AA-4436-4581-81E0-35310717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1DC01-CB36-40D2-9347-175DAF7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BE8E8-8908-4B1C-87C1-71F9FA5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11FEB-D176-48D1-AB21-68AC0A5D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10837-2FF4-489E-877D-885EF33D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90BCC-E023-471A-89A0-CAF95900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062D5-DD1C-4AAC-AAC4-C148411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756C9-D703-40AD-9BE3-A5CF500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0CBF8-AAD8-4BDE-A4F3-C3C8ED3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A7C-8F05-48CC-8813-38F509C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FB7A8-B24F-435C-9754-338775CB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E369B-8903-4635-B98E-386EA6E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A8219-ED08-4425-918D-4EBE736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69158-3D38-4700-AC71-F352C2BD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93D9A-0E9F-4ADE-9413-A74E7DD6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DEF20-EF41-4EF9-91E1-E5AEFC7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33ACD-A1E2-44FE-8974-AB03B85B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A0932-5BF8-4CE4-BC71-A17B50E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3F257-CC9E-4070-880D-155DFE2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5B602-AAB3-4AE5-A288-DE9E8A2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310-4F19-47E9-8D77-6547843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E955A-A598-4AB7-A361-7B7DEE9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6ABFE-E852-4DE8-B07E-49BCB7A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2CD6D-4A2E-4D43-A83A-9DB1E1C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1080F-5BB2-4C84-97AC-3D2857E7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FB6B1-86D0-4061-9A6B-BE23861D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912-E877-417D-B939-0F3E916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8C8-4C30-4BBC-99FE-3CA4075622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9DA-480B-4DD4-98F7-F5AF5BC540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8E7-505A-49AE-AEEB-608DF0C7A1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395C-CB73-4E2E-A7CB-77A7D44C95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00E8-963F-497A-9FE0-2F288C86F67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1A12-42D1-4D45-B15E-2FA1C826B8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806-E66C-46CD-BBD5-5C847B064A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entury Schoolbook"/>
              </a:rPr>
              <a:t>QUIZ #4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ENGLISH 201 Summer 201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rof. Evers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98072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Put your name at top, today’s date, June 9, 2011 and Quiz #4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666880" y="38088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WORK INDIVID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Placeholder 2"/>
          <p:cNvSpPr/>
          <p:nvPr/>
        </p:nvSpPr>
        <p:spPr>
          <a:xfrm>
            <a:off x="2514600" y="2438280"/>
            <a:ext cx="3581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Copy the whol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Fill in the blank with one of the words at the t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Underline</a:t>
            </a: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 the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You will have 10 minutes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Good lu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C:\Users\jose\AppData\Local\Microsoft\Windows\Temporary Internet Files\Content.IE5\6X679QE1\MC900413460[1].wmf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2021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vocabulary.png"/>
          <p:cNvPicPr/>
          <p:nvPr/>
        </p:nvPicPr>
        <p:blipFill>
          <a:blip r:embed="rId2"/>
          <a:stretch/>
        </p:blipFill>
        <p:spPr>
          <a:xfrm>
            <a:off x="6629400" y="3809880"/>
            <a:ext cx="1965240" cy="2595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C:\Users\jose\AppData\Local\Microsoft\Windows\Temporary Internet Files\Content.IE5\QAUPEWIM\MC900434665[1].wmf"/>
          <p:cNvPicPr/>
          <p:nvPr/>
        </p:nvPicPr>
        <p:blipFill>
          <a:blip r:embed="rId3"/>
          <a:stretch/>
        </p:blipFill>
        <p:spPr>
          <a:xfrm>
            <a:off x="1752480" y="457200"/>
            <a:ext cx="838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9"/>
          <p:cNvSpPr/>
          <p:nvPr/>
        </p:nvSpPr>
        <p:spPr>
          <a:xfrm>
            <a:off x="0" y="41400"/>
            <a:ext cx="9144000" cy="7119720"/>
          </a:xfrm>
          <a:prstGeom prst="rect">
            <a:avLst/>
          </a:prstGeom>
          <a:solidFill>
            <a:srgbClr val="121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social       round       physical            flat   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static      philosophical       dynamic      intellec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The people in a story are called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____ is the way the writer makes characters seem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stock or stereotyped character is called a ___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___________ characters are complex and display conflicts found in real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__________ character is one that does no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A character is ____________ if she/he shows a substantial change through the action of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how a character looks is a ___________  analysis of a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what a character knows and how they learn is an _____________ analysis of th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the class a character belongs to is a __________ analysis of the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Describing a character’s outlook on life and beliefs is a _________ analysis of a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Century Schoolbook"/>
              </a:rPr>
              <a:t>TURN IN YOUR QUIZ</a:t>
            </a:r>
            <a:endParaRPr b="0" lang="en-US" sz="66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44:02Z</dcterms:created>
  <dc:creator>Preferred User</dc:creator>
  <dc:description/>
  <dc:language>en-US</dc:language>
  <cp:lastModifiedBy>Sally Everson</cp:lastModifiedBy>
  <dcterms:modified xsi:type="dcterms:W3CDTF">2011-06-09T14:16:38Z</dcterms:modified>
  <cp:revision>116</cp:revision>
  <dc:subject/>
  <dc:title>QUIZ #1</dc:title>
</cp:coreProperties>
</file>